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FF71-6B37-4589-AABF-BBFD1CC179F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an early education of English influence children’s English ability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C5DE-BFF1-4262-87CA-8FF3B9C1FA4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0652-866F-4B5C-8F65-B3833B3846B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ulitzer prize-winning cartoonist Rube Goldberg was most famous for his ability to link one event to another — in outrageous fashion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his series of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causes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leads to the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effect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of a sharpened penci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ldberg cartoons: http://www.rube-goldberg.com/gallery.ht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680A-382A-4CF5-AAA7-3DE83074F62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ause is supported by few minor supports. While writing, these major and minor ideas should be adequately explained and exemplified as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A3BD-CF44-404A-9A1B-15009E82E29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ain, we have grouped related effects under two main point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physiological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psychologica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, we have supported each effect with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two minor support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 and B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writing, we should explain these major and minor supports by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giving examples and/or defining what we mea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E192-EB1D-4193-9C61-A39FC10EAE99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ain, each major point should be supported with examples, statistics that show that there are some factories and deodorants that release chlorofluorocarbons, that there is a rise in the sea-level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odorants: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防臭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lorofluorocarbon gas: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含氯氟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即破壞臭氧層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zone layer: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臭氧層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 rays: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紫外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0A5F-D855-41EB-A681-85943D7111C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5230-67B4-4D53-86F7-20157E89E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1B91-1257-49DB-9B41-24A4127A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7124-0A40-4677-857C-F46395CB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1253-9ABB-437E-AD65-C93D165AF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74DC-1F37-4FB4-BE64-9B4E6DA8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D703-BD57-49C0-B0C1-8228F45D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04AF-9706-4E44-B839-195D0015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40EB-F79E-4458-9F90-22D2ECC7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D5AE-9624-4F5D-AA70-F2A49B03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C8D1-9D45-48E8-968A-8DE40AEB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AF41-7D54-45A9-9F10-FF228E18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0FAF-FFA5-4038-8AD6-0D45A384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6F49-F64A-4F46-852E-FA5F2A85FF27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6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use and Effect Ess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art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136) Why Students Are Po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pattern does the writer u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ultiple caus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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Eff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Effec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college students are po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Caus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they cannot work fulltim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they have other expenses that working adults don’t ha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k of a successful event or situation. Explain and discuss how to achieve such a succes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effects of the computer on the quality of your writ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ould an early education of English influence children’s English ability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書卷 (水平) 3"/>
          <p:cNvSpPr/>
          <p:nvPr/>
        </p:nvSpPr>
        <p:spPr>
          <a:xfrm>
            <a:off x="3000240" y="2571840"/>
            <a:ext cx="3714840" cy="642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ultiple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書卷 (水平) 4"/>
          <p:cNvSpPr/>
          <p:nvPr/>
        </p:nvSpPr>
        <p:spPr>
          <a:xfrm>
            <a:off x="5000760" y="3643200"/>
            <a:ext cx="3571920" cy="642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u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ultipl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書卷 (水平) 5"/>
          <p:cNvSpPr/>
          <p:nvPr/>
        </p:nvSpPr>
        <p:spPr>
          <a:xfrm>
            <a:off x="5072040" y="5214960"/>
            <a:ext cx="3500640" cy="642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u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ultipl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by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428840"/>
            <a:ext cx="832968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p 1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stinguish between cause and effect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determine causes: "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Why did this happen?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identify effects: "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What happened because of this?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u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You are out of gas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ffe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Your car won't star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u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duce work hours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ff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ess income / employer is irritated / more time to study / more time for family and friend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us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iked business in high school / salaries in the field are high / am good with numbers 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ffe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hoose to major in account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p 2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velop your thesis statement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e clearly whether you are discussing causes, effects, or both. Introduce  your main idea, using the terms "cause" and/or "effect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p 3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nd and organize supporting detail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ck up your thesis with relevant and sufficient details that are organiz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ronological. Details are arranged in the order in which the events occurr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der of importance. Details are arranged from least to most important or vice vers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tegorical. Details are arranged by dividing the topic into parts or categori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p 4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e appropriate transition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end details smoothly in cause and effect essay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 cause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cause, due to, on cause is, another is, since, for, first, second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 Effect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equently, as a result, thus, resulted in, one result is, another is, therefore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1. Brainstorm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us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at lead to the particular event or situa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13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ercise 1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-class 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ide the topic to writ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ide a pattern you want to use in your writing (Effect-multiple causes / Cause-multiple effects / Chain effects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ainstorm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us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at lead to an event or a situation, 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ffec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at may follow a cau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2. Cluste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uster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the process o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oup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deas that are similar so that the writer can develop the information into a thesis statement, topic, topic sentences, and supporting detail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13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-class 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w cluster the ideas into logical categories by eliminating irrelevant  or problematic ide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3. Outl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d on the clustered ideas, compose the thesis statem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ide the subtopics for each body paragrap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ed details in the body paragrap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provide descri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give statistics or fact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13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-class 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the brainstorming ideas. Write the outline for your ess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use and Effect Ess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se and effect essays are concerned wi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y things happ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caus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at happens as a resul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effec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rpose: 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auses (reasons) or the effects (results) of an event or situ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內容版面配置區 3" descr="The links of events_by Goldberg.jpg"/>
          <p:cNvPicPr/>
          <p:nvPr/>
        </p:nvPicPr>
        <p:blipFill>
          <a:blip r:embed="rId1"/>
          <a:stretch/>
        </p:blipFill>
        <p:spPr>
          <a:xfrm>
            <a:off x="285840" y="71280"/>
            <a:ext cx="8656560" cy="4929480"/>
          </a:xfrm>
          <a:prstGeom prst="rect">
            <a:avLst/>
          </a:prstGeom>
          <a:ln w="0">
            <a:noFill/>
          </a:ln>
        </p:spPr>
      </p:pic>
      <p:sp>
        <p:nvSpPr>
          <p:cNvPr id="53" name="文字方塊 4"/>
          <p:cNvSpPr/>
          <p:nvPr/>
        </p:nvSpPr>
        <p:spPr>
          <a:xfrm>
            <a:off x="285840" y="5000760"/>
            <a:ext cx="88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 window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(A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fly kite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(B)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C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fts small door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D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ing moths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E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escape and eat red flannel shirt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F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weight of shirt becomes less, sho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G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eps on switch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H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ch heats electric iron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I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burns hole in pants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J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Smok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K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ers hole in tre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L)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oking out opossum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M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ch jumps into basket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N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pulling rop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O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lifting cag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P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allowing woodpecker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Q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chew wood from pencil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R)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osing lead. Emergency knif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always handy in case opossum or the woodpecker gets sick and can't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an Goldberg’s cartoon tell yo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you say “opening the window” sharpen the pencil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being a business man a cause of being a rich m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.13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hoo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ddle sent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is 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dy paragrap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pic sentence (the cau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ing details (explanation)(examples and fac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tatements / paraphr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mma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ts / Opin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p.136) Why Students Are Poor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event under discussio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hook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ackground information: What exampl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sis statemen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aus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pporting details: Giving explanations? Showing statistic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clusion: Giving solutions or opinion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s of 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ultiple caus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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Eff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developmental paragraph is devoted to one of the causes of the ev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圖片 3" descr="1.jpg"/>
          <p:cNvPicPr/>
          <p:nvPr/>
        </p:nvPicPr>
        <p:blipFill>
          <a:blip r:embed="rId1"/>
          <a:stretch/>
        </p:blipFill>
        <p:spPr>
          <a:xfrm>
            <a:off x="571680" y="2928960"/>
            <a:ext cx="8075520" cy="3714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au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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Multiple eff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ffects of a certain situation are explained in separate paragraph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00040" y="3071880"/>
            <a:ext cx="8143920" cy="3357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ausal chains / Domi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vents lead to one anoth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571680" y="2714760"/>
            <a:ext cx="8143560" cy="3286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1T06:52:56Z</dcterms:created>
  <dc:creator>Windows 使用者</dc:creator>
  <dc:description/>
  <dc:language>en-US</dc:language>
  <cp:lastModifiedBy>teacher</cp:lastModifiedBy>
  <dcterms:modified xsi:type="dcterms:W3CDTF">2009-05-25T09:01:40Z</dcterms:modified>
  <cp:revision>36</cp:revision>
  <dc:subject/>
  <dc:title>投影片 1</dc:title>
</cp:coreProperties>
</file>